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7.png" ContentType="image/png"/>
  <Override PartName="/ppt/media/image19.png" ContentType="image/png"/>
  <Override PartName="/ppt/media/image84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0F0A-8A71-4AFB-953D-A3214DE03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731D-FF36-4C68-8829-F7148B478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990E-99DF-40DD-99F5-AE4529840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A8C7-EAC5-4341-A678-6989F7AA8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C380-776C-4E24-9B57-9AA53A812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A83F-8996-4CB8-A3E5-2FAAA0E1B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3938-0C3C-4FB4-8268-BDD147A8E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4BE4-E5D6-455C-BC5F-B84BC6BC1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E2BF-4965-4A68-8DFE-6F6852E7D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AF8F-5D48-4AD6-B37D-8DD631F5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3C06-2BD9-42BE-9F87-C9105405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D238-8111-4A10-AA43-63C0B5F4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328BB-A802-482E-9E26-939271EC90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58E82-9C50-4795-B1D1-ECE4BD9A74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9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3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0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image" Target="../media/image75.png"/><Relationship Id="rId4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png"/><Relationship Id="rId3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png"/><Relationship Id="rId3" Type="http://schemas.openxmlformats.org/officeDocument/2006/relationships/image" Target="../media/image82.png"/><Relationship Id="rId4" Type="http://schemas.openxmlformats.org/officeDocument/2006/relationships/image" Target="../media/image8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228600" y="228600"/>
            <a:ext cx="87631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TRODUCTION TO THE RELATIO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ain construct for representing data in the relational model is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on consists of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on schem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on in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chema specifies the relation's name, the name of each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e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o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lum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r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ribu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and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each 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s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tring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tring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tring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integer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p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795E0-665E-49EC-8CF1-FBDE0B1F3A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"/>
          <p:cNvSpPr/>
          <p:nvPr/>
        </p:nvSpPr>
        <p:spPr>
          <a:xfrm>
            <a:off x="304920" y="449280"/>
            <a:ext cx="85341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Specifying Key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QL UNIQUE Constra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NIQUE constraint uniquely identifies each record in a databas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 that you can have many UNIQUE constraints per table, but only one PRIMARY KEY constraint per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371B9-662D-42FA-99E4-F51BF2E54F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"/>
          <p:cNvSpPr/>
          <p:nvPr/>
        </p:nvSpPr>
        <p:spPr>
          <a:xfrm>
            <a:off x="152280" y="76320"/>
            <a:ext cx="88394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TABLE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d NUMBER(5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VARCHAR2(10) UNIQU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in VARCHAR2(20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 NUMBER(2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pa NUMBER(2,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QL PRIMARY KEY Constra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MARY KEY constraint uniquely identifies each record in a databas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BEE2B-75B3-4B12-8344-C83327B110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152280" y="152280"/>
            <a:ext cx="88394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TABLE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d NUMBER(5) PRIMARY KE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VARCHAR2(10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in VARCHAR2(20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 NUMBER(2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pa NUMBER(2,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QL FOREIGN KEY Constra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OREIGN KEY in one table points to a PRIMARY KEY in another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F5A09-9BD9-45E4-BC27-1BBBB999AB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152280" y="96840"/>
            <a:ext cx="8839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one of the relations is modified, the other must be checked, and perhaps modified, to keep the data consist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eld of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roll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called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eign ke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refers to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52280" y="2362320"/>
            <a:ext cx="8839440" cy="3886200"/>
          </a:xfrm>
          <a:prstGeom prst="rect">
            <a:avLst/>
          </a:prstGeom>
          <a:ln w="0">
            <a:noFill/>
          </a:ln>
        </p:spPr>
      </p:pic>
      <p:sp>
        <p:nvSpPr>
          <p:cNvPr id="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03E9E-A1ED-40B3-B4E6-D57889F8CA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"/>
          <p:cNvSpPr/>
          <p:nvPr/>
        </p:nvSpPr>
        <p:spPr>
          <a:xfrm>
            <a:off x="152280" y="325440"/>
            <a:ext cx="8839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eign ka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ue must be one of the values of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ary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we try to insert the tup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55555, Art104, A&g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o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roll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 IC is violated because there is no tupl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the id 555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ilarly, if we delete the tup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53666, Jones, jones@cs, 18, 3.4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e violate the foreign key constraint because the tuple &lt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666, History105, B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roll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ain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ue 53666, th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 deleted  Students tu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03BBD-EE04-4C94-98F3-1134E4836D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152280" y="376200"/>
            <a:ext cx="8839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TABLE Enroll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d VARCHAR2(20) PRIMARY KE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de VARCHAR2(2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d NUMBER(5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EIGN KEY(sid) REFERENCES Students(si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General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 constraint is used to limit the value range that can be placed in a colum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91BDA-015A-4984-AF26-E0F94400E9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"/>
          <p:cNvSpPr/>
          <p:nvPr/>
        </p:nvSpPr>
        <p:spPr>
          <a:xfrm>
            <a:off x="152280" y="147600"/>
            <a:ext cx="8839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xample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students must be at least 16 years old (Fig 3.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TABLE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d NUMBER(5) PRIMARY KE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VARCHAR2(10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in VARCHAR2(20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 NUMBER(2) CHECK (age&gt;16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pa NUMBER(2,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C04AA-CF6A-46DE-BB78-827580EDD2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914400" y="230040"/>
            <a:ext cx="6934320" cy="304668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152280" y="3368520"/>
            <a:ext cx="8839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FORCING INTEGRITY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s ar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en a relation i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forc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 relation i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tial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 viola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generally checked at the end of each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QL statement exec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0E75D-5A6E-4CD6-BD2C-79EE3B755A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"/>
          <p:cNvSpPr/>
          <p:nvPr/>
        </p:nvSpPr>
        <p:spPr>
          <a:xfrm>
            <a:off x="152280" y="100080"/>
            <a:ext cx="883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the Students relation shown in Figure 3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ollowing insertion violates the primary key constraint because there is already a tuple with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688, and it will be rejected by the DB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 INTO Students (sid, name, login, age, gp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UES (53688, 'Mike', 'mike@ee', 17, 3.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ollowing insertion violates the constraint that the  primary key cannot conta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l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 INTO Students (sid, name, login, age, gp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UES (</a:t>
            </a:r>
            <a:r>
              <a:rPr b="0" i="1" lang="fi-F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ll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'Mike', 'mike@ee', 17, 3.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9E579-D00F-4F4F-B538-D8B8DDAD83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228600" y="123840"/>
            <a:ext cx="87631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update can cause violations, similar to an inser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 Students SET sid = 50000 WHERE sid = 536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update violates the primary key constraint because there is already a tuple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referential integrity enforcement(on foreign ke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ons of Enrolled tuples do not violate referential integrity, but insertions of Enrolled tuples cou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ollowing insertion is illegal because there is no student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11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ACCB1-75D2-41FC-92E1-184B0007E0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152280" y="1620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Students relation appears in Figure 3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icture 2"/>
          <p:cNvSpPr/>
          <p:nvPr/>
        </p:nvSpPr>
        <p:spPr>
          <a:xfrm>
            <a:off x="111240" y="1143000"/>
            <a:ext cx="88804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184320" y="1066680"/>
            <a:ext cx="8807400" cy="5181840"/>
          </a:xfrm>
          <a:prstGeom prst="rect">
            <a:avLst/>
          </a:prstGeom>
          <a:ln w="0">
            <a:noFill/>
          </a:ln>
        </p:spPr>
      </p:pic>
      <p:sp>
        <p:nvSpPr>
          <p:cNvPr id="4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16E93-1715-4804-8D29-EA7BCAB835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"/>
          <p:cNvSpPr/>
          <p:nvPr/>
        </p:nvSpPr>
        <p:spPr>
          <a:xfrm>
            <a:off x="152280" y="176040"/>
            <a:ext cx="883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 INTO Enrolled (cid, grade, si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UES ('Hindi101', 'B', 511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the other hand, insertions of Students tuples do not violate referential integrity although deletions cou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rther, updates on either Enrolled or Students that change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ue could potentially violate referential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TABLE Enroll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d VARCHAR2(20) PRIMARY KE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de VARCHAR2(2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sid NUMBER(5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FOREIGN KEY(sid) REFERENCES Students(sid)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6BE8F-92A4-4F49-9542-03D6B57F43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152280" y="101520"/>
            <a:ext cx="883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ON DELETE CASC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    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ON UPDATE NO A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ptions are specified as part of the foreign key decla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efault option is NO ACTION, which means that the action (DELETE or UPDATE) is to be rej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ASCADE keyword says that if a Students row is deleted, all Enrolled rows that refer to it are to be deleted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UPDATE clause specified CASCADE, a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29051-5466-4C5C-8C18-EF855832FD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76320" y="149400"/>
            <a:ext cx="89913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umn of a Students row is updated, this update is also carried out in each Enrolled row that refers to the updated Students 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a Students row is deleted, we can switch the enrollment to a 'default' student by using ON DELETE SET DEFA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efault student is specified as part of the definition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eld in Enrolled; for example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(5) DEFAUL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53666'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really not appropriate to switch enrollments to a default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rrect solution in this example is to also delete 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2A8F6-194A-47A1-9A4E-9BC118C61F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152280" y="152280"/>
            <a:ext cx="88394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rollment tuples for the deleted student (that is, CASCADE), or to reject the up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QL also allows the us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l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the default value by specifying ON DELETE SET N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QUERYING RELATION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onal database que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query, for short) is a question about the data, and the answer consists of a new relation containing the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, find all students younger than 18 or all students enrolled in History1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FACC8-0A36-47C2-9EB4-C980996137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2280" y="152280"/>
            <a:ext cx="88394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ry languag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language for writing qu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QL is the most popular commercial query language for a relational DB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can retrieve rows corresponding to students who are younger than 18 with the following SQL que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* FROM Students S WHERE S.age &lt; 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ymbol * means that we retain all fields of selected tuples in the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understand this query, think of S as a variable that ta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D5C9A-D12E-44B2-BCFF-ABC76419B9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"/>
          <p:cNvSpPr/>
          <p:nvPr/>
        </p:nvSpPr>
        <p:spPr>
          <a:xfrm>
            <a:off x="152280" y="152280"/>
            <a:ext cx="8839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the value of each tuple in Students, one tuple after the o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ndi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age &lt; 18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WHERE clause specifies that we want to select only tuples in which the age field has a value less than 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 is shown in Fig 3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287280" y="3809880"/>
            <a:ext cx="8551800" cy="2819520"/>
          </a:xfrm>
          <a:prstGeom prst="rect">
            <a:avLst/>
          </a:prstGeom>
          <a:ln w="0">
            <a:noFill/>
          </a:ln>
        </p:spPr>
      </p:pic>
      <p:sp>
        <p:nvSpPr>
          <p:cNvPr id="9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23663-3CB8-4DC3-BB14-C36AF6CA51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"/>
          <p:cNvSpPr/>
          <p:nvPr/>
        </p:nvSpPr>
        <p:spPr>
          <a:xfrm>
            <a:off x="152280" y="152280"/>
            <a:ext cx="8839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ddition to selecting a subset of tuples, a query can extract a subset of the fields of each selected tu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can compute the names and logins of students who are younger than 18 with the following que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.name, S.login FROM Students 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S.ag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ure 3.7 shows the resul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1"/>
          <a:stretch/>
        </p:blipFill>
        <p:spPr>
          <a:xfrm>
            <a:off x="1676520" y="4243320"/>
            <a:ext cx="4800600" cy="1548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"/>
          <p:cNvPicPr/>
          <p:nvPr/>
        </p:nvPicPr>
        <p:blipFill>
          <a:blip r:embed="rId2"/>
          <a:stretch/>
        </p:blipFill>
        <p:spPr>
          <a:xfrm>
            <a:off x="1295280" y="5943600"/>
            <a:ext cx="5892840" cy="380880"/>
          </a:xfrm>
          <a:prstGeom prst="rect">
            <a:avLst/>
          </a:prstGeom>
          <a:ln w="0">
            <a:noFill/>
          </a:ln>
        </p:spPr>
      </p:pic>
      <p:sp>
        <p:nvSpPr>
          <p:cNvPr id="9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B126B-9C0F-4583-A901-CCD92B6C5E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"/>
          <p:cNvSpPr/>
          <p:nvPr/>
        </p:nvSpPr>
        <p:spPr>
          <a:xfrm>
            <a:off x="152280" y="152280"/>
            <a:ext cx="8839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can also combine information in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roll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we want to obtain the names of all students who obtained grade A and the cid in which they got grade A, we could write the following que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.name, E.cid FROM Students S, Enrolled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S.sid = E.sid  AND E.grade = 'A'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swer is &lt;Smith, Topology112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BE8B8-0BC7-4C8E-9D70-4D903FBBA8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"/>
          <p:cNvSpPr/>
          <p:nvPr/>
        </p:nvSpPr>
        <p:spPr>
          <a:xfrm>
            <a:off x="152280" y="482760"/>
            <a:ext cx="8839440" cy="51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OGICAL DATABASE DESIGN: ER TO RELATION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R model is convenient for representing an initial, high-level database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tity Sets to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attribute of the entity set becomes an attribute of th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 that we know both the domain of each attribute and the (primary) key of an entity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1AF3A-7A60-45B7-9B20-02FE8F40FA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305920" cy="40068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2"/>
          <p:cNvSpPr/>
          <p:nvPr/>
        </p:nvSpPr>
        <p:spPr>
          <a:xfrm>
            <a:off x="152280" y="152280"/>
            <a:ext cx="883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the Employees entity set with attribut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n, name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o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n in Figure 3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ossible instance of the Employees entity set, containing three Employees  entities, is shown in Figure 3.9 in a tabular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F84A9-4F9F-4584-9148-E00062950F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228600" y="152280"/>
            <a:ext cx="87631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gre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lso calle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f a relation is the number of f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dinal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a relation instance is the number of tuples in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Figure 3.1, the degree of the relation (the number of columns) i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the cardinality of this instance i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onal databa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collection of relations with distinct relation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onal database schem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collection of schemas for the relations in the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FCCCE-F2B0-4204-BCBB-8EBB83E062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152280" y="2971800"/>
            <a:ext cx="8763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ollowing SQL statement captures the preceding information, including the domain constraints and key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TABLE Employ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n VARCHAR2(11) PRIMARY KE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VARCHAR2(30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t NUMBER(2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1752480" y="152280"/>
            <a:ext cx="5783400" cy="22100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"/>
          <p:cNvPicPr/>
          <p:nvPr/>
        </p:nvPicPr>
        <p:blipFill>
          <a:blip r:embed="rId2"/>
          <a:stretch/>
        </p:blipFill>
        <p:spPr>
          <a:xfrm>
            <a:off x="1447920" y="2438280"/>
            <a:ext cx="6476760" cy="520920"/>
          </a:xfrm>
          <a:prstGeom prst="rect">
            <a:avLst/>
          </a:prstGeom>
          <a:ln w="0">
            <a:noFill/>
          </a:ln>
        </p:spPr>
      </p:pic>
      <p:sp>
        <p:nvSpPr>
          <p:cNvPr id="11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A8752-57D8-48CA-B214-AA082528B6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"/>
          <p:cNvSpPr/>
          <p:nvPr/>
        </p:nvSpPr>
        <p:spPr>
          <a:xfrm>
            <a:off x="152280" y="247680"/>
            <a:ext cx="8839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lationship Sets (without Constraints) to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relationship set, like an entity set, is mapped to a relation in the relatio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us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attributes of the relation inclu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The primary key attributes of each participating entity set, as foreign key f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The descriptive attributes of the relationship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the Works_In2 relationship set shown in Figure 3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8F6A0-7B94-4EE9-9615-E86F951F13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95400" y="914400"/>
            <a:ext cx="88963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C8BB2-74BB-4EE4-8E9F-0F525DC338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"/>
          <p:cNvSpPr/>
          <p:nvPr/>
        </p:nvSpPr>
        <p:spPr>
          <a:xfrm>
            <a:off x="152280" y="249120"/>
            <a:ext cx="88394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the available information about the Work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2 table is captured by the following SQL defin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TABLE Works_In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ssn VARCHAR2(11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did NUMBER(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address VARCHAR2(20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since D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ARY KEY(ssn, did, address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EIGN KEY(ssn) REFERENCES Employees(ssn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EIGN KEY(did) REFERENCES Departments(did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EIGN KEY(address) REFERENCE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tions(address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F0CAC-B16C-4B9D-B5D2-3DE1A5B27A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152280" y="15228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the Report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elationship set shown in Figure 3.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460440" y="1190520"/>
            <a:ext cx="8074080" cy="4981680"/>
          </a:xfrm>
          <a:prstGeom prst="rect">
            <a:avLst/>
          </a:prstGeom>
          <a:ln w="0">
            <a:noFill/>
          </a:ln>
        </p:spPr>
      </p:pic>
      <p:sp>
        <p:nvSpPr>
          <p:cNvPr id="11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332D4-7984-4BF0-9E38-B0DBCAC0CB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228600" y="152280"/>
            <a:ext cx="86868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ole indicator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ervis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ordinat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used to create meaningful field names in the Reports_To tab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TABLE Reports_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supervisor_ssn VARCHAR2(1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subordinate_ssn VARCHAR2(1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ARY KEY(supervisor_ssn, subordinate_ssn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EIGN KEY(supervisor_ssn) REFEREN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loyees(ssn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EIGN KEY(subordinate_ssn) REFERENCE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loyees(ss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C9443-BFD0-4127-AAD8-279D4D4928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"/>
          <p:cNvSpPr/>
          <p:nvPr/>
        </p:nvSpPr>
        <p:spPr>
          <a:xfrm>
            <a:off x="152280" y="152280"/>
            <a:ext cx="88394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ranslating Relationship Sets with Key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a relationship set involv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ity sets and som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 of them are linked via arrow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he ER diagram,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ke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y one of the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ity sets constitutes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ke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the relation to which the relationship set is map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us we hav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andidate key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se should be designated as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imary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the relationship set Manages shown in Figure3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able corresponding to Manages has the attribut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n, did, sin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ary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D420-285E-4B37-B72F-864B73026F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8774280" cy="3962520"/>
          </a:xfrm>
          <a:prstGeom prst="rect">
            <a:avLst/>
          </a:prstGeom>
          <a:ln w="0">
            <a:noFill/>
          </a:ln>
        </p:spPr>
      </p:pic>
      <p:sp>
        <p:nvSpPr>
          <p:cNvPr id="125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7BBCD-319E-45D6-AAEA-E20079E419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"/>
          <p:cNvSpPr/>
          <p:nvPr/>
        </p:nvSpPr>
        <p:spPr>
          <a:xfrm>
            <a:off x="152280" y="76320"/>
            <a:ext cx="883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First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TABLE Man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did NUMBER(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ssn VARCHAR2(1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since D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ARY KEY(did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EIGN KEY(did) REFERENCES Departments(did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EIGN KEY(ssn) REFERENCES Employees(ss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Second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TABLE Dept_Mg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did NUMBER(2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ARY KE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BDDF8-2262-4938-8180-8D92D48927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"/>
          <p:cNvSpPr/>
          <p:nvPr/>
        </p:nvSpPr>
        <p:spPr>
          <a:xfrm>
            <a:off x="152280" y="152280"/>
            <a:ext cx="8839440" cy="64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dname VARCHAR2(20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budget NUMBER(10,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since D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ssn VARCHAR2(11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EIGN KEY(ssn) REFERENCES Employees(ss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 method eliminates the need for a separate Manages re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ranslating Relationship Sets with Participation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the ER diagram in Figure 3.13, which shows two relationship sets, Manages and Work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25CA-5BF5-4213-9965-CE43C02523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52280" y="152280"/>
            <a:ext cx="88394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reating and Modifying Relations Using SQ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the Students relation, use the following state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TABLE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d NUMBER(5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VARCHAR2(10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in VARCHAR2(20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 NUMBER(2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pa NUMBER(2,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2ED9D-1A7A-4237-B8C4-AFE819705A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686800" cy="5229360"/>
          </a:xfrm>
          <a:prstGeom prst="rect">
            <a:avLst/>
          </a:prstGeom>
          <a:ln w="0">
            <a:noFill/>
          </a:ln>
        </p:spPr>
      </p:pic>
      <p:sp>
        <p:nvSpPr>
          <p:cNvPr id="131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CF022-ADD5-4B3D-AFB4-E6B890A136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"/>
          <p:cNvSpPr/>
          <p:nvPr/>
        </p:nvSpPr>
        <p:spPr>
          <a:xfrm>
            <a:off x="152280" y="762120"/>
            <a:ext cx="8839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TABLE Dept_Mg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did NUMBER(2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ARY KE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dname VARCHAR2(20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budget NUMBER(10,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since DAT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ssn VARCHAR2(11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NU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EIGN KEY(ssn) REFERENCES Employees(ssn) 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E NO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3D28D-1CB1-47F7-872E-C7870E2F5B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"/>
          <p:cNvSpPr/>
          <p:nvPr/>
        </p:nvSpPr>
        <p:spPr>
          <a:xfrm>
            <a:off x="152280" y="546120"/>
            <a:ext cx="8839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ranslating Weak Entity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the Dependents weak entity set shown in Figure 3.14, with partial ke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190440" y="2590920"/>
            <a:ext cx="8691480" cy="3733560"/>
          </a:xfrm>
          <a:prstGeom prst="rect">
            <a:avLst/>
          </a:prstGeom>
          <a:ln w="0">
            <a:noFill/>
          </a:ln>
        </p:spPr>
      </p:pic>
      <p:sp>
        <p:nvSpPr>
          <p:cNvPr id="13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04D09-4CAC-469C-9C31-9D601A3A57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"/>
          <p:cNvSpPr/>
          <p:nvPr/>
        </p:nvSpPr>
        <p:spPr>
          <a:xfrm>
            <a:off x="152280" y="128520"/>
            <a:ext cx="883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TABLE Dep_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name VARCHAR2(20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 NUMBER(2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 NUMBER(10,2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n VARCHAR2(11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ARY KEY(ssn,pna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EIGN KEY(ssn) REFERENCES Employees(ssn) 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E CASC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ranslating Class Hierarch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wo basic approaches to handling ISA hierarchies by applying them to the ER diagram shown in Figure 3.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F600D-4972-406D-8FD7-B4EE10F5AB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391160" cy="6423120"/>
          </a:xfrm>
          <a:prstGeom prst="rect">
            <a:avLst/>
          </a:prstGeom>
          <a:ln w="0">
            <a:noFill/>
          </a:ln>
        </p:spPr>
      </p:pic>
      <p:sp>
        <p:nvSpPr>
          <p:cNvPr id="140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F6F32-444B-42D0-BED8-FE5DE194DA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"/>
          <p:cNvSpPr/>
          <p:nvPr/>
        </p:nvSpPr>
        <p:spPr>
          <a:xfrm>
            <a:off x="152280" y="425520"/>
            <a:ext cx="8839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pproach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loyees relation contain field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sn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am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s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imary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rl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s relation has filed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ourly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ages, hours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ork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s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s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imary ke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well a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oreign ke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encing the Emplyoy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ac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s relation has filed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tracti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ss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s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imary ke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 well a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oreign ke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encing the Emplyoy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AF47-05B9-4EE5-91EB-23D9DDC954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"/>
          <p:cNvSpPr/>
          <p:nvPr/>
        </p:nvSpPr>
        <p:spPr>
          <a:xfrm>
            <a:off x="152280" y="604800"/>
            <a:ext cx="88394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pproach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rl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s includes all the attributes of Hourl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s as well as all the attributes of Employees (i.e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n, name, lot, hourly_wages, hours_work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s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imary ke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 well a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oreign ke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encing the Emplyoyee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ac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s includes all the attributes of Contrac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s as well as all the attributes of Employees (i.e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n, name, lot, contracti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s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imary ke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 well a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oreign ke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encing the Emplyoyee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6BD10-3ADE-41FE-803D-3DD0DB8656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"/>
          <p:cNvSpPr/>
          <p:nvPr/>
        </p:nvSpPr>
        <p:spPr>
          <a:xfrm>
            <a:off x="152280" y="554040"/>
            <a:ext cx="8839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ranslating ER Diagrams with Aggre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the ER diagram shown in Figure 3.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mployees rel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ain field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ary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ojects rel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ain field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ed_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budg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ary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epartments rel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ain field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dg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ary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E50B-AC38-4BEF-A3FD-125AB81443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"/>
          <p:cNvSpPr/>
          <p:nvPr/>
        </p:nvSpPr>
        <p:spPr>
          <a:xfrm>
            <a:off x="457200" y="380880"/>
            <a:ext cx="8305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ponsors rel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ain field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d,d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ary ke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i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eign ke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encing Projects and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eign ke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encing Depar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onitors rel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ain attribut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n, did, pi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ti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n,pid,d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imary ke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i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eign ke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encing Projects and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eign ke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encing Departments and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s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eign ke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encing Employ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D80E3-36A1-416B-854F-1DA477773F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8839440" cy="5486400"/>
          </a:xfrm>
          <a:prstGeom prst="rect">
            <a:avLst/>
          </a:prstGeom>
          <a:ln w="0">
            <a:noFill/>
          </a:ln>
        </p:spPr>
      </p:pic>
      <p:sp>
        <p:nvSpPr>
          <p:cNvPr id="150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3CF66-A40E-4778-92DC-3E74289D90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152280" y="152280"/>
            <a:ext cx="883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ples are inserted using the INSERT com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can insert a single tuple into the Students table as follo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 INTO Students (sid, name, login, age, gp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UES (53688, 'Smith', 'smith@ee', 18, 3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can delete tuples using the DELETE com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can delete all Students tuples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al to Smith using the comma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E FROM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name = 'Smith'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5A8D0-122A-433D-8472-C817344C51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152280" y="152280"/>
            <a:ext cx="883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TRODUCTION TO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w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virtual table whose rows are not explicitly stored in the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iew contains no data of it’s 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yntax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create view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as &lt;query expression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x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CREATE VIEW Sailorsv(sid, sna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SELECT sid, sname FROM Sail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ailorsv has two fields call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the same domains as the field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ailor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331CA-4F3E-4390-9619-3CD4F16096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"/>
          <p:cNvSpPr/>
          <p:nvPr/>
        </p:nvSpPr>
        <p:spPr>
          <a:xfrm>
            <a:off x="228600" y="369720"/>
            <a:ext cx="8686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view can be used just like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 tab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defining new queries or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x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trieve all records from the sailors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elect * from sailors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utp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5334120" y="3048120"/>
          <a:ext cx="2361960" cy="3352680"/>
        </p:xfrm>
        <a:graphic>
          <a:graphicData uri="http://schemas.openxmlformats.org/drawingml/2006/table">
            <a:tbl>
              <a:tblPr/>
              <a:tblGrid>
                <a:gridCol w="1181160"/>
                <a:gridCol w="1180800"/>
              </a:tblGrid>
              <a:tr h="30456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NAM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30492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d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30492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30456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b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30492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utu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30492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ust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30456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ati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30492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ati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30492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ubbe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30456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t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  <a:tr h="30492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orb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16200000"/>
                    </a:gradFill>
                  </a:tcPr>
                </a:tc>
              </a:tr>
            </a:tbl>
          </a:graphicData>
        </a:graphic>
      </p:graphicFrame>
      <p:sp>
        <p:nvSpPr>
          <p:cNvPr id="1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E8977-6A8B-41D9-8C8D-E2067630A0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1"/>
          <p:cNvSpPr/>
          <p:nvPr/>
        </p:nvSpPr>
        <p:spPr>
          <a:xfrm>
            <a:off x="380880" y="380880"/>
            <a:ext cx="8305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hough views are useful, they present serious problems if we expres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s, insertions, or deletion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ifficulty is that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ific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the database expressed in terms of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ust be translated to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ific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ual relation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datab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C235F-5D50-4F78-9AF2-3AEC62C5AB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4"/>
          <p:cNvSpPr/>
          <p:nvPr/>
        </p:nvSpPr>
        <p:spPr>
          <a:xfrm>
            <a:off x="304920" y="149400"/>
            <a:ext cx="86104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iews, Data Independence,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schem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 relational database describes how the relations in the conceptual schema are stored, in terms of the file organizations and indexes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view mechanism provides the support for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ical data independe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relatio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, if the schema of a stored relation is changed, we can define a view with the old schema, and applications that expect to see the old schema can now use this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ws are also valuable in the context of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6BD18-B037-4ED9-8FD1-05CC7A0A86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"/>
          <p:cNvSpPr/>
          <p:nvPr/>
        </p:nvSpPr>
        <p:spPr>
          <a:xfrm>
            <a:off x="152280" y="152280"/>
            <a:ext cx="8763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can define views that give a group of users access to just the information they are allowed to s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, we can define a view that allows students to access other students name and age but not their gpa, and not allowed to access underlying Students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92E41-2269-4088-9939-3A2D8B44BA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304920" y="376200"/>
            <a:ext cx="84582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LATIONAL  ALGE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ries in algebra are composed using a collection of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operators (selection, projection, union, cross-product, and differe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lection and Pro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selection operator (</a:t>
            </a:r>
            <a:r>
              <a:rPr b="0" lang="el-GR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σ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0" lang="el-GR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s used to specify the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the instance of the Sailors relation shown in Figure 4.2, denoted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47BB9-2EB0-4C28-8B12-F550AE85E0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109440" y="874800"/>
            <a:ext cx="4614840" cy="25905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"/>
          <p:cNvPicPr/>
          <p:nvPr/>
        </p:nvPicPr>
        <p:blipFill>
          <a:blip r:embed="rId2"/>
          <a:stretch/>
        </p:blipFill>
        <p:spPr>
          <a:xfrm>
            <a:off x="4800600" y="762120"/>
            <a:ext cx="4224240" cy="28558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"/>
          <p:cNvPicPr/>
          <p:nvPr/>
        </p:nvPicPr>
        <p:blipFill>
          <a:blip r:embed="rId3"/>
          <a:stretch/>
        </p:blipFill>
        <p:spPr>
          <a:xfrm>
            <a:off x="1698480" y="4038480"/>
            <a:ext cx="5007240" cy="1981440"/>
          </a:xfrm>
          <a:prstGeom prst="rect">
            <a:avLst/>
          </a:prstGeom>
          <a:ln w="0">
            <a:noFill/>
          </a:ln>
        </p:spPr>
      </p:pic>
      <p:sp>
        <p:nvSpPr>
          <p:cNvPr id="16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77C06-A223-4598-9042-AE7F7DD795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"/>
          <p:cNvSpPr/>
          <p:nvPr/>
        </p:nvSpPr>
        <p:spPr>
          <a:xfrm>
            <a:off x="152280" y="685800"/>
            <a:ext cx="8763120" cy="24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x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trieve sailors whose rating is above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ating&gt;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to the relation shown in Figure 4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2590920" y="3470400"/>
            <a:ext cx="3795480" cy="12697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2"/>
          <a:stretch/>
        </p:blipFill>
        <p:spPr>
          <a:xfrm>
            <a:off x="2590920" y="4765680"/>
            <a:ext cx="3733560" cy="339840"/>
          </a:xfrm>
          <a:prstGeom prst="rect">
            <a:avLst/>
          </a:prstGeom>
          <a:ln w="0">
            <a:noFill/>
          </a:ln>
        </p:spPr>
      </p:pic>
      <p:sp>
        <p:nvSpPr>
          <p:cNvPr id="17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37D38-0F0F-4663-A606-1F99FBAC02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"/>
          <p:cNvSpPr/>
          <p:nvPr/>
        </p:nvSpPr>
        <p:spPr>
          <a:xfrm>
            <a:off x="152280" y="152280"/>
            <a:ext cx="8839440" cy="36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projection operator (</a:t>
            </a:r>
            <a:r>
              <a:rPr b="0" lang="el-GR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π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0" lang="el-GR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s used to specify the fields of a re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x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d sailor names and ra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name,ra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to the relation shown in Figure 4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3352680" y="3981600"/>
            <a:ext cx="3200400" cy="2342880"/>
          </a:xfrm>
          <a:prstGeom prst="rect">
            <a:avLst/>
          </a:prstGeom>
          <a:ln w="0">
            <a:noFill/>
          </a:ln>
        </p:spPr>
      </p:pic>
      <p:sp>
        <p:nvSpPr>
          <p:cNvPr id="17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1889D-B78E-4245-B960-D9A00F3BE2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228600" y="449280"/>
            <a:ext cx="8686800" cy="24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x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d ages of sail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to the relation shown in Figure 4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3124080" y="2948040"/>
            <a:ext cx="3203640" cy="2538360"/>
          </a:xfrm>
          <a:prstGeom prst="rect">
            <a:avLst/>
          </a:prstGeom>
          <a:ln w="0">
            <a:noFill/>
          </a:ln>
        </p:spPr>
      </p:pic>
      <p:sp>
        <p:nvSpPr>
          <p:cNvPr id="17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E5D4C-6FA8-4EE4-912C-041314AC9D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152280" y="152280"/>
            <a:ext cx="8839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can modify the column values in an existing row using the UPDATE com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, we can increment the age and decrement the gpa of the student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688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age = age + 1, gpa = gpa -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sid = 536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B7784-235D-4659-A466-3F1AB661DB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"/>
          <p:cNvSpPr/>
          <p:nvPr/>
        </p:nvSpPr>
        <p:spPr>
          <a:xfrm>
            <a:off x="152280" y="311040"/>
            <a:ext cx="8763120" cy="24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x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d sailor names and ratings, whose rating is above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name,ra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ating&gt;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the result shown in Figure 4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522440" y="2819520"/>
            <a:ext cx="5565600" cy="2133360"/>
          </a:xfrm>
          <a:prstGeom prst="rect">
            <a:avLst/>
          </a:prstGeom>
          <a:ln w="0">
            <a:noFill/>
          </a:ln>
        </p:spPr>
      </p:pic>
      <p:sp>
        <p:nvSpPr>
          <p:cNvPr id="18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61A0D-C6F0-4CFB-BFCD-5E5EA5B1B8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"/>
          <p:cNvSpPr/>
          <p:nvPr/>
        </p:nvSpPr>
        <p:spPr>
          <a:xfrm>
            <a:off x="152280" y="152280"/>
            <a:ext cx="88394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t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-dif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ss-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nion Operation(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a relation instance containing all tuples that occur in either relation instance R or relation instance S (or bo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lations R and S must be compat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3" descr=""/>
          <p:cNvPicPr/>
          <p:nvPr/>
        </p:nvPicPr>
        <p:blipFill>
          <a:blip r:embed="rId1"/>
          <a:stretch/>
        </p:blipFill>
        <p:spPr>
          <a:xfrm>
            <a:off x="533520" y="4038480"/>
            <a:ext cx="914400" cy="3812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"/>
          <p:cNvPicPr/>
          <p:nvPr/>
        </p:nvPicPr>
        <p:blipFill>
          <a:blip r:embed="rId2"/>
          <a:stretch/>
        </p:blipFill>
        <p:spPr>
          <a:xfrm>
            <a:off x="2955960" y="3281400"/>
            <a:ext cx="320760" cy="299880"/>
          </a:xfrm>
          <a:prstGeom prst="rect">
            <a:avLst/>
          </a:prstGeom>
          <a:ln w="0">
            <a:noFill/>
          </a:ln>
        </p:spPr>
      </p:pic>
      <p:sp>
        <p:nvSpPr>
          <p:cNvPr id="18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F00D3-9A04-4CCA-9BC2-C9EBF5274A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"/>
          <p:cNvSpPr/>
          <p:nvPr/>
        </p:nvSpPr>
        <p:spPr>
          <a:xfrm>
            <a:off x="152280" y="152280"/>
            <a:ext cx="87631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tersection Operation(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a relation instance containing all tuples that occur in both R and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lations R and S must be compat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t-difference Operation(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a relation instance containing all tuples that occur in R but not in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lations R and S must be compat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3886200" y="295200"/>
            <a:ext cx="262080" cy="314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"/>
          <p:cNvPicPr/>
          <p:nvPr/>
        </p:nvPicPr>
        <p:blipFill>
          <a:blip r:embed="rId2"/>
          <a:stretch/>
        </p:blipFill>
        <p:spPr>
          <a:xfrm>
            <a:off x="533520" y="1133640"/>
            <a:ext cx="803160" cy="3142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"/>
          <p:cNvPicPr/>
          <p:nvPr/>
        </p:nvPicPr>
        <p:blipFill>
          <a:blip r:embed="rId3"/>
          <a:stretch/>
        </p:blipFill>
        <p:spPr>
          <a:xfrm>
            <a:off x="4114800" y="3276720"/>
            <a:ext cx="406440" cy="3045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"/>
          <p:cNvPicPr/>
          <p:nvPr/>
        </p:nvPicPr>
        <p:blipFill>
          <a:blip r:embed="rId4"/>
          <a:stretch/>
        </p:blipFill>
        <p:spPr>
          <a:xfrm>
            <a:off x="457200" y="4114800"/>
            <a:ext cx="914400" cy="355680"/>
          </a:xfrm>
          <a:prstGeom prst="rect">
            <a:avLst/>
          </a:prstGeom>
          <a:ln w="0">
            <a:noFill/>
          </a:ln>
        </p:spPr>
      </p:pic>
      <p:sp>
        <p:nvSpPr>
          <p:cNvPr id="190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D740C-E18A-4AB9-A689-7E423BB52E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"/>
          <p:cNvSpPr/>
          <p:nvPr/>
        </p:nvSpPr>
        <p:spPr>
          <a:xfrm>
            <a:off x="152280" y="152280"/>
            <a:ext cx="8839440" cy="65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ross-product Operation(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a relation instance contains all the fields of R  (in the same order as they appear in R) followed by all the fields of S (in the same order as they appear in 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ross-product operation is also call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artesian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Find the sid's who are present in S1 and S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                       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resul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517680" y="1143000"/>
            <a:ext cx="777600" cy="3049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"/>
          <p:cNvPicPr/>
          <p:nvPr/>
        </p:nvPicPr>
        <p:blipFill>
          <a:blip r:embed="rId2"/>
          <a:stretch/>
        </p:blipFill>
        <p:spPr>
          <a:xfrm>
            <a:off x="4267080" y="304920"/>
            <a:ext cx="285840" cy="3045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/>
          <p:cNvPicPr/>
          <p:nvPr/>
        </p:nvPicPr>
        <p:blipFill>
          <a:blip r:embed="rId3"/>
          <a:stretch/>
        </p:blipFill>
        <p:spPr>
          <a:xfrm>
            <a:off x="2422440" y="5872320"/>
            <a:ext cx="320760" cy="29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5" name=""/>
          <p:cNvGraphicFramePr/>
          <p:nvPr/>
        </p:nvGraphicFramePr>
        <p:xfrm>
          <a:off x="7238880" y="4038480"/>
          <a:ext cx="533520" cy="273384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455760">
                <a:tc>
                  <a:txBody>
                    <a:bodyPr lIns="51120" rIns="51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i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51120" rIns="51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51120" rIns="51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51120" rIns="51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51120" rIns="51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51120" rIns="51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9C1E5-5882-46C3-91E3-3B6AADB127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"/>
          <p:cNvSpPr/>
          <p:nvPr/>
        </p:nvSpPr>
        <p:spPr>
          <a:xfrm>
            <a:off x="152280" y="630360"/>
            <a:ext cx="8839440" cy="57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Find the sid's who are present in both S1 and S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           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resul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Find the sid's who are present in S1 but not in S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resul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The result of the cross-product              is shown in Figure 4.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2819520" y="1666800"/>
            <a:ext cx="261720" cy="314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9" name=""/>
          <p:cNvGraphicFramePr/>
          <p:nvPr/>
        </p:nvGraphicFramePr>
        <p:xfrm>
          <a:off x="6705720" y="1681200"/>
          <a:ext cx="533160" cy="136692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455400">
                <a:tc>
                  <a:txBody>
                    <a:bodyPr lIns="51120" rIns="51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i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51120" rIns="51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51120" rIns="51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0" name="Picture 4" descr=""/>
          <p:cNvPicPr/>
          <p:nvPr/>
        </p:nvPicPr>
        <p:blipFill>
          <a:blip r:embed="rId2"/>
          <a:stretch/>
        </p:blipFill>
        <p:spPr>
          <a:xfrm>
            <a:off x="2641680" y="4191120"/>
            <a:ext cx="406440" cy="30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1" name=""/>
          <p:cNvGraphicFramePr/>
          <p:nvPr/>
        </p:nvGraphicFramePr>
        <p:xfrm>
          <a:off x="6629400" y="4267080"/>
          <a:ext cx="533520" cy="9115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455760">
                <a:tc>
                  <a:txBody>
                    <a:bodyPr lIns="51120" rIns="51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i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51120" rIns="51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2" name="Picture 2" descr=""/>
          <p:cNvPicPr/>
          <p:nvPr/>
        </p:nvPicPr>
        <p:blipFill>
          <a:blip r:embed="rId3"/>
          <a:stretch/>
        </p:blipFill>
        <p:spPr>
          <a:xfrm>
            <a:off x="5083200" y="5486400"/>
            <a:ext cx="1089000" cy="304920"/>
          </a:xfrm>
          <a:prstGeom prst="rect">
            <a:avLst/>
          </a:prstGeom>
          <a:ln w="0">
            <a:noFill/>
          </a:ln>
        </p:spPr>
      </p:pic>
      <p:sp>
        <p:nvSpPr>
          <p:cNvPr id="203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2701A-62DE-4FC5-A176-79821A9452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762120" y="249120"/>
            <a:ext cx="7832520" cy="356076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2"/>
          <p:cNvSpPr/>
          <p:nvPr/>
        </p:nvSpPr>
        <p:spPr>
          <a:xfrm>
            <a:off x="228600" y="3657600"/>
            <a:ext cx="8686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na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eld name conflicts can arise in some cases; for example, sid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naming operator(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is used to rename the 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2"/>
          <a:stretch/>
        </p:blipFill>
        <p:spPr>
          <a:xfrm>
            <a:off x="1143000" y="5089680"/>
            <a:ext cx="1143000" cy="3204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" descr=""/>
          <p:cNvPicPr/>
          <p:nvPr/>
        </p:nvPicPr>
        <p:blipFill>
          <a:blip r:embed="rId3"/>
          <a:stretch/>
        </p:blipFill>
        <p:spPr>
          <a:xfrm>
            <a:off x="3200400" y="5867280"/>
            <a:ext cx="376200" cy="451080"/>
          </a:xfrm>
          <a:prstGeom prst="rect">
            <a:avLst/>
          </a:prstGeom>
          <a:ln w="0">
            <a:noFill/>
          </a:ln>
        </p:spPr>
      </p:pic>
      <p:sp>
        <p:nvSpPr>
          <p:cNvPr id="20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630D-7643-463F-99C2-17EF077A94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"/>
          <p:cNvSpPr/>
          <p:nvPr/>
        </p:nvSpPr>
        <p:spPr>
          <a:xfrm>
            <a:off x="152280" y="533520"/>
            <a:ext cx="88394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two fields in the result table must have the same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, the expres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a relation that contains the tuples shown in Figure 4.11 and has the following schem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(sid1: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er, sname: string, rating: integer, age: real, sid2: integer, bid: integer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y: da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nam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lso used for naming intermediate re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4525920" y="1447920"/>
            <a:ext cx="4313160" cy="457200"/>
          </a:xfrm>
          <a:prstGeom prst="rect">
            <a:avLst/>
          </a:prstGeom>
          <a:ln w="0">
            <a:noFill/>
          </a:ln>
        </p:spPr>
      </p:pic>
      <p:sp>
        <p:nvSpPr>
          <p:cNvPr id="21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F8A35-E713-438D-A2D1-FA92D74000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"/>
          <p:cNvSpPr/>
          <p:nvPr/>
        </p:nvSpPr>
        <p:spPr>
          <a:xfrm>
            <a:off x="152280" y="552600"/>
            <a:ext cx="8839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Jo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ins are used to combine two or more re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ndition Jo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in operation accepts a join condition c and a pair of relations  as arguments, and returns a re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peration is defined as follo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1905120" y="5234040"/>
            <a:ext cx="3371760" cy="480960"/>
          </a:xfrm>
          <a:prstGeom prst="rect">
            <a:avLst/>
          </a:prstGeom>
          <a:ln w="0">
            <a:noFill/>
          </a:ln>
        </p:spPr>
      </p:pic>
      <p:sp>
        <p:nvSpPr>
          <p:cNvPr id="21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2732C-35FE-4327-B98B-BD6DFA7F0F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1"/>
          <p:cNvSpPr/>
          <p:nvPr/>
        </p:nvSpPr>
        <p:spPr>
          <a:xfrm>
            <a:off x="152280" y="152280"/>
            <a:ext cx="8839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:                                       is shown in Figure 4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quijo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Equijoin, condition consists of equalities of the form R.name1 = S.name2, that is, equalities between two fields in R and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sult                                 is shown in Figure 4.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914400" y="233280"/>
            <a:ext cx="3352680" cy="4525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"/>
          <p:cNvPicPr/>
          <p:nvPr/>
        </p:nvPicPr>
        <p:blipFill>
          <a:blip r:embed="rId2"/>
          <a:stretch/>
        </p:blipFill>
        <p:spPr>
          <a:xfrm>
            <a:off x="992160" y="762120"/>
            <a:ext cx="6996240" cy="19047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"/>
          <p:cNvPicPr/>
          <p:nvPr/>
        </p:nvPicPr>
        <p:blipFill>
          <a:blip r:embed="rId3"/>
          <a:stretch/>
        </p:blipFill>
        <p:spPr>
          <a:xfrm>
            <a:off x="1849320" y="5410080"/>
            <a:ext cx="2799000" cy="381240"/>
          </a:xfrm>
          <a:prstGeom prst="rect">
            <a:avLst/>
          </a:prstGeom>
          <a:ln w="0">
            <a:noFill/>
          </a:ln>
        </p:spPr>
      </p:pic>
      <p:sp>
        <p:nvSpPr>
          <p:cNvPr id="21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0A058-4A76-48A5-9A84-51F297057C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537600" cy="198108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2"/>
          <p:cNvSpPr/>
          <p:nvPr/>
        </p:nvSpPr>
        <p:spPr>
          <a:xfrm>
            <a:off x="152280" y="2133720"/>
            <a:ext cx="8839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ice that only on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ars in the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atural Jo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quijoin expression                                 is actually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ural joi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can simply be denoted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ons must have at least one common 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5" descr=""/>
          <p:cNvPicPr/>
          <p:nvPr/>
        </p:nvPicPr>
        <p:blipFill>
          <a:blip r:embed="rId2"/>
          <a:stretch/>
        </p:blipFill>
        <p:spPr>
          <a:xfrm>
            <a:off x="4114800" y="4419720"/>
            <a:ext cx="2798640" cy="3808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"/>
          <p:cNvPicPr/>
          <p:nvPr/>
        </p:nvPicPr>
        <p:blipFill>
          <a:blip r:embed="rId3"/>
          <a:stretch/>
        </p:blipFill>
        <p:spPr>
          <a:xfrm>
            <a:off x="6477120" y="4876920"/>
            <a:ext cx="1122120" cy="304560"/>
          </a:xfrm>
          <a:prstGeom prst="rect">
            <a:avLst/>
          </a:prstGeom>
          <a:ln w="0">
            <a:noFill/>
          </a:ln>
        </p:spPr>
      </p:pic>
      <p:sp>
        <p:nvSpPr>
          <p:cNvPr id="22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01145-8F0E-4A1E-9C2E-8D7A299D35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152280" y="200160"/>
            <a:ext cx="88394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TEGRITY CONSTRAINTS OVER RE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ity constraint (IC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condition that is specified on a database schema, and verified on the data that is to be stored in an instance of the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a database instance satisfies all the integrity constraints specified on the database schema, it is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ga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BMS enforce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ity constraints, in that it permits only legal instances to be stored in the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ity constraints ar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forc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 different tim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EA968-C9CD-4BE0-ABCD-114E4DC384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"/>
          <p:cNvSpPr/>
          <p:nvPr/>
        </p:nvSpPr>
        <p:spPr>
          <a:xfrm>
            <a:off x="152280" y="528480"/>
            <a:ext cx="8839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i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two relations A and B in which A has (exactly) two fields x and y and B has just one field y, with the same domain as in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define the division operation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s the set of all x values such that for every y value in B, there is a tu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5410080" y="4483080"/>
            <a:ext cx="648000" cy="3888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" descr=""/>
          <p:cNvPicPr/>
          <p:nvPr/>
        </p:nvPicPr>
        <p:blipFill>
          <a:blip r:embed="rId2"/>
          <a:stretch/>
        </p:blipFill>
        <p:spPr>
          <a:xfrm>
            <a:off x="8001000" y="4871880"/>
            <a:ext cx="895320" cy="50832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5"/>
          <p:cNvSpPr/>
          <p:nvPr/>
        </p:nvSpPr>
        <p:spPr>
          <a:xfrm>
            <a:off x="152280" y="60480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eft outer join is denoted as        right outer join is denoted as           full outer join is denoted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3"/>
          <a:stretch/>
        </p:blipFill>
        <p:spPr>
          <a:xfrm>
            <a:off x="5638680" y="681120"/>
            <a:ext cx="552600" cy="4014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"/>
          <p:cNvPicPr/>
          <p:nvPr/>
        </p:nvPicPr>
        <p:blipFill>
          <a:blip r:embed="rId4"/>
          <a:stretch/>
        </p:blipFill>
        <p:spPr>
          <a:xfrm>
            <a:off x="1981080" y="1106640"/>
            <a:ext cx="533520" cy="4125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"/>
          <p:cNvPicPr/>
          <p:nvPr/>
        </p:nvPicPr>
        <p:blipFill>
          <a:blip r:embed="rId5"/>
          <a:stretch/>
        </p:blipFill>
        <p:spPr>
          <a:xfrm>
            <a:off x="6748560" y="1138320"/>
            <a:ext cx="642960" cy="380880"/>
          </a:xfrm>
          <a:prstGeom prst="rect">
            <a:avLst/>
          </a:prstGeom>
          <a:ln w="0">
            <a:noFill/>
          </a:ln>
        </p:spPr>
      </p:pic>
      <p:sp>
        <p:nvSpPr>
          <p:cNvPr id="232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45DF-A950-4D48-94FB-1725B58FD2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372960" y="228600"/>
            <a:ext cx="8197920" cy="6248520"/>
          </a:xfrm>
          <a:prstGeom prst="rect">
            <a:avLst/>
          </a:prstGeom>
          <a:ln w="0">
            <a:noFill/>
          </a:ln>
        </p:spPr>
      </p:pic>
      <p:sp>
        <p:nvSpPr>
          <p:cNvPr id="234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92511-B89D-433B-9185-D40AA4FF1F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1"/>
          <p:cNvSpPr/>
          <p:nvPr/>
        </p:nvSpPr>
        <p:spPr>
          <a:xfrm>
            <a:off x="152280" y="7632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xamples of Relational Algebra Qu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9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8001000" cy="6019920"/>
          </a:xfrm>
          <a:prstGeom prst="rect">
            <a:avLst/>
          </a:prstGeom>
          <a:ln w="0">
            <a:noFill/>
          </a:ln>
        </p:spPr>
      </p:pic>
      <p:sp>
        <p:nvSpPr>
          <p:cNvPr id="23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30398-8EEC-46CB-8EC5-5F9CB410DF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1"/>
          <p:cNvSpPr/>
          <p:nvPr/>
        </p:nvSpPr>
        <p:spPr>
          <a:xfrm>
            <a:off x="152280" y="152280"/>
            <a:ext cx="8839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Q1) Find the names of sailors who have reserved boat 1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ustin, Lubb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rat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 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renaming op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588080" cy="6094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" descr=""/>
          <p:cNvPicPr/>
          <p:nvPr/>
        </p:nvPicPr>
        <p:blipFill>
          <a:blip r:embed="rId2"/>
          <a:stretch/>
        </p:blipFill>
        <p:spPr>
          <a:xfrm>
            <a:off x="1523880" y="3733920"/>
            <a:ext cx="5334120" cy="7221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"/>
          <p:cNvPicPr/>
          <p:nvPr/>
        </p:nvPicPr>
        <p:blipFill>
          <a:blip r:embed="rId3"/>
          <a:stretch/>
        </p:blipFill>
        <p:spPr>
          <a:xfrm>
            <a:off x="1523880" y="4419720"/>
            <a:ext cx="5486400" cy="1523880"/>
          </a:xfrm>
          <a:prstGeom prst="rect">
            <a:avLst/>
          </a:prstGeom>
          <a:ln w="0">
            <a:noFill/>
          </a:ln>
        </p:spPr>
      </p:pic>
      <p:sp>
        <p:nvSpPr>
          <p:cNvPr id="24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D7491-F566-4DBE-B87C-DBAB58E088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208080" y="152280"/>
            <a:ext cx="8429400" cy="243864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2"/>
          <p:cNvSpPr/>
          <p:nvPr/>
        </p:nvSpPr>
        <p:spPr>
          <a:xfrm>
            <a:off x="228600" y="2666880"/>
            <a:ext cx="8763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 is another way to write this que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Q2) Find the names of sailors who have reserved a red bo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ustin, Lubb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rat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3" descr=""/>
          <p:cNvPicPr/>
          <p:nvPr/>
        </p:nvPicPr>
        <p:blipFill>
          <a:blip r:embed="rId2"/>
          <a:stretch/>
        </p:blipFill>
        <p:spPr>
          <a:xfrm>
            <a:off x="1103400" y="3227400"/>
            <a:ext cx="6669000" cy="5824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"/>
          <p:cNvPicPr/>
          <p:nvPr/>
        </p:nvPicPr>
        <p:blipFill>
          <a:blip r:embed="rId3"/>
          <a:stretch/>
        </p:blipFill>
        <p:spPr>
          <a:xfrm>
            <a:off x="304920" y="5029200"/>
            <a:ext cx="8381880" cy="561960"/>
          </a:xfrm>
          <a:prstGeom prst="rect">
            <a:avLst/>
          </a:prstGeom>
          <a:ln w="0">
            <a:noFill/>
          </a:ln>
        </p:spPr>
      </p:pic>
      <p:sp>
        <p:nvSpPr>
          <p:cNvPr id="24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EFFDD-C664-4D55-99A0-39BB24DC64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1"/>
          <p:cNvSpPr/>
          <p:nvPr/>
        </p:nvSpPr>
        <p:spPr>
          <a:xfrm>
            <a:off x="152280" y="299880"/>
            <a:ext cx="8839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Q3) Find the colors of boats reserved by Lub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Q4) Find the names of sailors who have reserved at least one bo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Q5) Find the names of sailors who have reserved a red or a green bo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3" descr=""/>
          <p:cNvPicPr/>
          <p:nvPr/>
        </p:nvPicPr>
        <p:blipFill>
          <a:blip r:embed="rId1"/>
          <a:stretch/>
        </p:blipFill>
        <p:spPr>
          <a:xfrm>
            <a:off x="228600" y="1173240"/>
            <a:ext cx="8610480" cy="5032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"/>
          <p:cNvPicPr/>
          <p:nvPr/>
        </p:nvPicPr>
        <p:blipFill>
          <a:blip r:embed="rId2"/>
          <a:stretch/>
        </p:blipFill>
        <p:spPr>
          <a:xfrm>
            <a:off x="1143000" y="3124080"/>
            <a:ext cx="493236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" descr=""/>
          <p:cNvPicPr/>
          <p:nvPr/>
        </p:nvPicPr>
        <p:blipFill>
          <a:blip r:embed="rId3"/>
          <a:stretch/>
        </p:blipFill>
        <p:spPr>
          <a:xfrm>
            <a:off x="152280" y="5105520"/>
            <a:ext cx="8875800" cy="1143000"/>
          </a:xfrm>
          <a:prstGeom prst="rect">
            <a:avLst/>
          </a:prstGeom>
          <a:ln w="0">
            <a:noFill/>
          </a:ln>
        </p:spPr>
      </p:pic>
      <p:sp>
        <p:nvSpPr>
          <p:cNvPr id="252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05552-7758-4557-A9A2-B494FC9263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/>
          <p:cNvSpPr/>
          <p:nvPr/>
        </p:nvSpPr>
        <p:spPr>
          <a:xfrm>
            <a:off x="228600" y="217440"/>
            <a:ext cx="8763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Q6) Find the sids of sailors with age over 20 who have not reserved a red bo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Q7) Find the names of sailors who have reserved all bo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3" descr=""/>
          <p:cNvPicPr/>
          <p:nvPr/>
        </p:nvPicPr>
        <p:blipFill>
          <a:blip r:embed="rId1"/>
          <a:stretch/>
        </p:blipFill>
        <p:spPr>
          <a:xfrm>
            <a:off x="316080" y="1227240"/>
            <a:ext cx="8447040" cy="11350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" descr=""/>
          <p:cNvPicPr/>
          <p:nvPr/>
        </p:nvPicPr>
        <p:blipFill>
          <a:blip r:embed="rId2"/>
          <a:stretch/>
        </p:blipFill>
        <p:spPr>
          <a:xfrm>
            <a:off x="533520" y="2822400"/>
            <a:ext cx="8001000" cy="121608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1"/>
          <p:cNvSpPr/>
          <p:nvPr/>
        </p:nvSpPr>
        <p:spPr>
          <a:xfrm>
            <a:off x="152280" y="418140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Q8) Find the names of sailors who have reserved all boats called Interl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3"/>
          <a:stretch/>
        </p:blipFill>
        <p:spPr>
          <a:xfrm>
            <a:off x="338040" y="5095800"/>
            <a:ext cx="8577360" cy="1000080"/>
          </a:xfrm>
          <a:prstGeom prst="rect">
            <a:avLst/>
          </a:prstGeom>
          <a:ln w="0">
            <a:noFill/>
          </a:ln>
        </p:spPr>
      </p:pic>
      <p:sp>
        <p:nvSpPr>
          <p:cNvPr id="258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B70F9-1BFE-4081-B6F5-70A9EDCAE0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152280" y="401760"/>
            <a:ext cx="8839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LATIONAL CALCU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onal calculus is an alternative to relational alge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onal Algebra is procedural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onal Calculus is nonprocedural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onal calculus is of two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Tuple Relational Calculus(TR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Domain Relational Calculus(DR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66447-D84E-433F-A218-E2547F4358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"/>
          <p:cNvSpPr/>
          <p:nvPr/>
        </p:nvSpPr>
        <p:spPr>
          <a:xfrm>
            <a:off x="152280" y="152280"/>
            <a:ext cx="88394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uple Relational Calcu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p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is a variable that takes tuples of a relation as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uple relational calculus query has the form               ,      whe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uple vari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T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formul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describ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sult of this query is the set of all tupl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which the formul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T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valuates to true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=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Q) Find all sailors with a rating above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7139160" y="2286000"/>
            <a:ext cx="2004840" cy="490680"/>
          </a:xfrm>
          <a:prstGeom prst="rect">
            <a:avLst/>
          </a:prstGeom>
          <a:ln w="0">
            <a:noFill/>
          </a:ln>
        </p:spPr>
      </p:pic>
      <p:sp>
        <p:nvSpPr>
          <p:cNvPr id="26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7DCE2-0A53-41DD-A98C-5C481675E9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1"/>
          <p:cNvSpPr/>
          <p:nvPr/>
        </p:nvSpPr>
        <p:spPr>
          <a:xfrm>
            <a:off x="152280" y="152280"/>
            <a:ext cx="883944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yntax of TRC Qu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 a relation name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 tuple variables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attribute of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attribute of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note an operator in the set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ul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ains the follow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1219320" y="128520"/>
            <a:ext cx="6221160" cy="6336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" descr=""/>
          <p:cNvPicPr/>
          <p:nvPr/>
        </p:nvPicPr>
        <p:blipFill>
          <a:blip r:embed="rId2"/>
          <a:stretch/>
        </p:blipFill>
        <p:spPr>
          <a:xfrm>
            <a:off x="5572080" y="3117960"/>
            <a:ext cx="3038400" cy="6159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" descr=""/>
          <p:cNvPicPr/>
          <p:nvPr/>
        </p:nvPicPr>
        <p:blipFill>
          <a:blip r:embed="rId3"/>
          <a:stretch/>
        </p:blipFill>
        <p:spPr>
          <a:xfrm>
            <a:off x="457200" y="4495680"/>
            <a:ext cx="7162920" cy="2141640"/>
          </a:xfrm>
          <a:prstGeom prst="rect">
            <a:avLst/>
          </a:prstGeom>
          <a:ln w="0">
            <a:noFill/>
          </a:ln>
        </p:spPr>
      </p:pic>
      <p:sp>
        <p:nvSpPr>
          <p:cNvPr id="26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31D9A-1AA5-486A-AC10-E3C3A204DC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152280" y="152280"/>
            <a:ext cx="883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When the DBA or end user defines a database sch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When a database application is run, the DBMS checks for integrity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Key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the Students relation and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straint that no two students have the same s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ntegrity Constraint is an example of a key constra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 constrain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et of the fields of a relation that uniquely identifies a tu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116FF-58A5-4DFB-832E-AD299B7F5F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1"/>
          <p:cNvSpPr/>
          <p:nvPr/>
        </p:nvSpPr>
        <p:spPr>
          <a:xfrm>
            <a:off x="152280" y="152280"/>
            <a:ext cx="8839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last two clauses above,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ntifiers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said t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varia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>
            <a:off x="380880" y="257040"/>
            <a:ext cx="7435800" cy="29433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"/>
          <p:cNvPicPr/>
          <p:nvPr/>
        </p:nvPicPr>
        <p:blipFill>
          <a:blip r:embed="rId2"/>
          <a:stretch/>
        </p:blipFill>
        <p:spPr>
          <a:xfrm>
            <a:off x="7139160" y="3657600"/>
            <a:ext cx="1242720" cy="457200"/>
          </a:xfrm>
          <a:prstGeom prst="rect">
            <a:avLst/>
          </a:prstGeom>
          <a:ln w="0">
            <a:noFill/>
          </a:ln>
        </p:spPr>
      </p:pic>
      <p:sp>
        <p:nvSpPr>
          <p:cNvPr id="27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F68D6-D094-4145-8FE9-228BE74607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"/>
          <p:cNvSpPr/>
          <p:nvPr/>
        </p:nvSpPr>
        <p:spPr>
          <a:xfrm>
            <a:off x="152280" y="152280"/>
            <a:ext cx="8839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ariable is said to b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 formula if the formula does not contain an occurrence of a quantifier that binds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C que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defined to be expression of  the          for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only free variable in the formul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xamples of TRC Qu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the instanc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Boat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Reserves, a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3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Sailors shown in Figures 4.15, 4.16, and 4.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Q)Find the names and ages of sailors with a rating above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2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1981080" cy="4903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" descr=""/>
          <p:cNvPicPr/>
          <p:nvPr/>
        </p:nvPicPr>
        <p:blipFill>
          <a:blip r:embed="rId2"/>
          <a:stretch/>
        </p:blipFill>
        <p:spPr>
          <a:xfrm>
            <a:off x="237960" y="5867280"/>
            <a:ext cx="8677440" cy="552600"/>
          </a:xfrm>
          <a:prstGeom prst="rect">
            <a:avLst/>
          </a:prstGeom>
          <a:ln w="0">
            <a:noFill/>
          </a:ln>
        </p:spPr>
      </p:pic>
      <p:sp>
        <p:nvSpPr>
          <p:cNvPr id="27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F51CD-E6F5-4540-9276-CE5397DBC7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9" descr=""/>
          <p:cNvPicPr/>
          <p:nvPr/>
        </p:nvPicPr>
        <p:blipFill>
          <a:blip r:embed="rId1"/>
          <a:stretch/>
        </p:blipFill>
        <p:spPr>
          <a:xfrm>
            <a:off x="255600" y="228600"/>
            <a:ext cx="8507520" cy="6400800"/>
          </a:xfrm>
          <a:prstGeom prst="rect">
            <a:avLst/>
          </a:prstGeom>
          <a:ln w="0">
            <a:noFill/>
          </a:ln>
        </p:spPr>
      </p:pic>
      <p:sp>
        <p:nvSpPr>
          <p:cNvPr id="278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FBC6C-6084-4E3C-B938-D092E19835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"/>
          <p:cNvSpPr/>
          <p:nvPr/>
        </p:nvSpPr>
        <p:spPr>
          <a:xfrm>
            <a:off x="152280" y="7632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Q) Find the sailor name, boat id, and reservation date for each reser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6" descr=""/>
          <p:cNvPicPr/>
          <p:nvPr/>
        </p:nvPicPr>
        <p:blipFill>
          <a:blip r:embed="rId1"/>
          <a:stretch/>
        </p:blipFill>
        <p:spPr>
          <a:xfrm>
            <a:off x="179280" y="990720"/>
            <a:ext cx="8812440" cy="10857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" descr=""/>
          <p:cNvPicPr/>
          <p:nvPr/>
        </p:nvPicPr>
        <p:blipFill>
          <a:blip r:embed="rId2"/>
          <a:stretch/>
        </p:blipFill>
        <p:spPr>
          <a:xfrm>
            <a:off x="2133720" y="1954080"/>
            <a:ext cx="3652560" cy="4827600"/>
          </a:xfrm>
          <a:prstGeom prst="rect">
            <a:avLst/>
          </a:prstGeom>
          <a:ln w="0">
            <a:noFill/>
          </a:ln>
        </p:spPr>
      </p:pic>
      <p:sp>
        <p:nvSpPr>
          <p:cNvPr id="28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554F2-4D05-47C4-B960-443FF27B07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3"/>
          <p:cNvSpPr/>
          <p:nvPr/>
        </p:nvSpPr>
        <p:spPr>
          <a:xfrm>
            <a:off x="228600" y="76320"/>
            <a:ext cx="8686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Q) Find the names of sailors who have reserved boat 1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Q) Find the names of sailors who have reserved a red bo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Q) Find the names of sailors who have reserved all bo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2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3" descr=""/>
          <p:cNvPicPr/>
          <p:nvPr/>
        </p:nvPicPr>
        <p:blipFill>
          <a:blip r:embed="rId2"/>
          <a:stretch/>
        </p:blipFill>
        <p:spPr>
          <a:xfrm>
            <a:off x="76320" y="2438280"/>
            <a:ext cx="9050040" cy="12193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"/>
          <p:cNvPicPr/>
          <p:nvPr/>
        </p:nvPicPr>
        <p:blipFill>
          <a:blip r:embed="rId3"/>
          <a:stretch/>
        </p:blipFill>
        <p:spPr>
          <a:xfrm>
            <a:off x="228600" y="4622760"/>
            <a:ext cx="8763120" cy="1092240"/>
          </a:xfrm>
          <a:prstGeom prst="rect">
            <a:avLst/>
          </a:prstGeom>
          <a:ln w="0">
            <a:noFill/>
          </a:ln>
        </p:spPr>
      </p:pic>
      <p:sp>
        <p:nvSpPr>
          <p:cNvPr id="28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0170C-B239-4B69-AFA0-C1ECA27B3E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"/>
          <p:cNvSpPr/>
          <p:nvPr/>
        </p:nvSpPr>
        <p:spPr>
          <a:xfrm>
            <a:off x="152280" y="15228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Q) Find sailors who have reserved all red bo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152280" y="826920"/>
            <a:ext cx="8839440" cy="1078200"/>
          </a:xfrm>
          <a:prstGeom prst="rect">
            <a:avLst/>
          </a:prstGeom>
          <a:ln w="0">
            <a:noFill/>
          </a:ln>
        </p:spPr>
      </p:pic>
      <p:sp>
        <p:nvSpPr>
          <p:cNvPr id="29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5956D-AFE0-45DD-815E-7DB36EF118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1"/>
          <p:cNvSpPr/>
          <p:nvPr/>
        </p:nvSpPr>
        <p:spPr>
          <a:xfrm>
            <a:off x="228600" y="152280"/>
            <a:ext cx="8763120" cy="61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omain Relational Calcu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main variab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variable that ranges over the values in the domain of some attribu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: the variable can be assigned an integer if it appears in an attribute whose domain is the set of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RC query has the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eac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I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IN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either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main variab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a constant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otes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C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4402080" y="4267080"/>
            <a:ext cx="3573360" cy="6098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4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3589200" cy="6098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3" descr=""/>
          <p:cNvPicPr/>
          <p:nvPr/>
        </p:nvPicPr>
        <p:blipFill>
          <a:blip r:embed="rId3"/>
          <a:stretch/>
        </p:blipFill>
        <p:spPr>
          <a:xfrm>
            <a:off x="304920" y="5715000"/>
            <a:ext cx="3504960" cy="533520"/>
          </a:xfrm>
          <a:prstGeom prst="rect">
            <a:avLst/>
          </a:prstGeom>
          <a:ln w="0">
            <a:noFill/>
          </a:ln>
        </p:spPr>
      </p:pic>
      <p:sp>
        <p:nvSpPr>
          <p:cNvPr id="29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E45FA-8992-427F-A0A2-CA0FE5EB48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1"/>
          <p:cNvSpPr/>
          <p:nvPr/>
        </p:nvSpPr>
        <p:spPr>
          <a:xfrm>
            <a:off x="152280" y="325440"/>
            <a:ext cx="8839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sult of this query is the set of all tup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hich the formula evaluates to 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RC formula is defined similar to the definition of a TRC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ain difference is that the variables are now domain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ote an operator in the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 domain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ul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ins the follow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2" descr=""/>
          <p:cNvPicPr/>
          <p:nvPr/>
        </p:nvPicPr>
        <p:blipFill>
          <a:blip r:embed="rId1"/>
          <a:stretch/>
        </p:blipFill>
        <p:spPr>
          <a:xfrm>
            <a:off x="6858000" y="380880"/>
            <a:ext cx="2286000" cy="5112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3" descr=""/>
          <p:cNvPicPr/>
          <p:nvPr/>
        </p:nvPicPr>
        <p:blipFill>
          <a:blip r:embed="rId2"/>
          <a:stretch/>
        </p:blipFill>
        <p:spPr>
          <a:xfrm>
            <a:off x="5562720" y="4184640"/>
            <a:ext cx="3038400" cy="615960"/>
          </a:xfrm>
          <a:prstGeom prst="rect">
            <a:avLst/>
          </a:prstGeom>
          <a:ln w="0">
            <a:noFill/>
          </a:ln>
        </p:spPr>
      </p:pic>
      <p:sp>
        <p:nvSpPr>
          <p:cNvPr id="29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EB536-3777-421F-AFCF-254685902E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8805960" cy="23623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3" descr=""/>
          <p:cNvPicPr/>
          <p:nvPr/>
        </p:nvPicPr>
        <p:blipFill>
          <a:blip r:embed="rId2"/>
          <a:stretch/>
        </p:blipFill>
        <p:spPr>
          <a:xfrm>
            <a:off x="228600" y="3052800"/>
            <a:ext cx="7175520" cy="2357280"/>
          </a:xfrm>
          <a:prstGeom prst="rect">
            <a:avLst/>
          </a:prstGeom>
          <a:ln w="0">
            <a:noFill/>
          </a:ln>
        </p:spPr>
      </p:pic>
      <p:sp>
        <p:nvSpPr>
          <p:cNvPr id="30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1929D-DB02-4426-BAE2-C175D7743C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"/>
          <p:cNvSpPr/>
          <p:nvPr/>
        </p:nvSpPr>
        <p:spPr>
          <a:xfrm>
            <a:off x="152280" y="152280"/>
            <a:ext cx="88394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xamples of DRC Qu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Q) Find all sailors with a rating above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Q) Find the names of sailors with a rating above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Q) Find the names of sailors who have reserved boat 1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tretch/>
        </p:blipFill>
        <p:spPr>
          <a:xfrm>
            <a:off x="466560" y="1600200"/>
            <a:ext cx="8067960" cy="8240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"/>
          <p:cNvPicPr/>
          <p:nvPr/>
        </p:nvPicPr>
        <p:blipFill>
          <a:blip r:embed="rId2"/>
          <a:stretch/>
        </p:blipFill>
        <p:spPr>
          <a:xfrm>
            <a:off x="685800" y="3581280"/>
            <a:ext cx="5902200" cy="5335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3" descr=""/>
          <p:cNvPicPr/>
          <p:nvPr/>
        </p:nvPicPr>
        <p:blipFill>
          <a:blip r:embed="rId3"/>
          <a:stretch/>
        </p:blipFill>
        <p:spPr>
          <a:xfrm>
            <a:off x="6473880" y="3657600"/>
            <a:ext cx="1450800" cy="4017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3" descr=""/>
          <p:cNvPicPr/>
          <p:nvPr/>
        </p:nvPicPr>
        <p:blipFill>
          <a:blip r:embed="rId4"/>
          <a:stretch/>
        </p:blipFill>
        <p:spPr>
          <a:xfrm>
            <a:off x="152280" y="5057640"/>
            <a:ext cx="8915400" cy="1343160"/>
          </a:xfrm>
          <a:prstGeom prst="rect">
            <a:avLst/>
          </a:prstGeom>
          <a:ln w="0">
            <a:noFill/>
          </a:ln>
        </p:spPr>
      </p:pic>
      <p:sp>
        <p:nvSpPr>
          <p:cNvPr id="308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052E6-450C-4FE4-BB09-43E81619E3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"/>
          <p:cNvSpPr/>
          <p:nvPr/>
        </p:nvSpPr>
        <p:spPr>
          <a:xfrm>
            <a:off x="152280" y="554040"/>
            <a:ext cx="8839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et of fields that uniquely identifies a tuple is called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didate ke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the re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 relation may have several candidate k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Students relation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didate key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ogi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 of all the available candidate keys, a database designer can identify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ary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{sid, name}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example of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erke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hich is a set of fields that contains a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919C6-A7DA-4C1D-9A63-FFD8AB0C2F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1"/>
          <p:cNvSpPr/>
          <p:nvPr/>
        </p:nvSpPr>
        <p:spPr>
          <a:xfrm>
            <a:off x="228600" y="22860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4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534520" cy="121896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11"/>
          <p:cNvSpPr/>
          <p:nvPr/>
        </p:nvSpPr>
        <p:spPr>
          <a:xfrm>
            <a:off x="3663000" y="22860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58E08-4BE3-4307-B6E9-D172FFCF83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11:29:01Z</dcterms:created>
  <dc:creator>DAMODAR</dc:creator>
  <dc:description/>
  <dc:language>en-US</dc:language>
  <cp:lastModifiedBy>Admin</cp:lastModifiedBy>
  <dcterms:modified xsi:type="dcterms:W3CDTF">2012-08-13T10:50:29Z</dcterms:modified>
  <cp:revision>791</cp:revision>
  <dc:subject/>
  <dc:title>Slide 1</dc:title>
</cp:coreProperties>
</file>